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CC6-F6E6-4EE1-9FC4-EAAE1FB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8D2-B167-4F40-AEC1-8216449D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38A-372A-4741-9574-687BFC10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BBF-41F7-4B5A-8D77-44780E00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B570-83FE-4CF7-A0E0-D0CF0E58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6EB2-020D-4139-8B07-29F77326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18B1-9BF5-46FA-B44B-7B9D71E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220-3AC3-4C2B-AD44-97269B8D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1010-3295-4FEE-91F9-A0C1BE6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EACE-168E-43BB-AFDB-A6D5A1B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B2EC-F115-4E74-BC2D-5B706CB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969-9689-4470-A587-0B3CF90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06DD-2392-4CDD-81CF-876F74A4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55E2-E101-4BB9-BDD5-ECF779AA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89FE-C277-48A3-8FFE-131BC64C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779-FC53-4AF0-9D46-AE6828E6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87D0-2E53-4353-9B05-68F11A1F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4FEB-6CD4-40BA-A63D-3773A6A9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3585-15D8-42DB-8BA6-1F4EEAC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0EE5-5426-4DFE-BDF3-E6C38792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91AE-F826-4C69-B325-4238FA4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0EFF-853D-40DA-83DA-0B51B5F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56A-300A-4900-98C4-9D1BF239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52E7-9B28-4B5C-9BFC-2B34335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AD7D-78CB-41F2-8099-33F1F0A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5574-7DDF-45F0-9596-2D9B27A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831C-0467-4D5D-AAC0-548A6D7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7810-2E06-49A9-96A6-661A406E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BEEB-2799-4AE5-8CC2-98123E06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5CD9-6FDE-4198-AC2C-DEC7FCAA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1F3D-FC10-4DDC-B3B0-5285B7D9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8BDA-0308-427F-B259-00C476AB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EE8A-C291-4049-A199-D427C01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1B8-EA82-4631-B498-A10F0722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C69C-DCE5-40F6-8D95-CD0721D1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FB46-3782-41BD-AC84-49C5EE0B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DDCD-7759-4835-B20C-11E0E80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2C99-9100-4043-BBEA-92E7EE3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F657-4152-42D4-9A4F-B7A44197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70B5-A3F0-4C7E-9C1F-30DC9FE8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D076-E9C5-418E-9F48-1D4BBC5D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1BD1-68EE-408D-92D2-905793AE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C0F2E-097C-4FF2-AC5C-B861D00D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42F4-C280-4EBF-8085-F2ED4123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6CD-9251-4F38-8FE9-CA2DB09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CDB5-EEED-4C57-8CE5-B700C5F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C547-B803-42AC-94F5-2EE0EEB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FDA12-F573-471B-8F0E-9CF6425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95CA-54AA-4B14-89A7-F21B8C1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31C3-B5CE-44F7-90D1-19289F2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9540-A62F-4A95-8571-2421338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CECF-11F2-4489-85A6-70832F00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25AE-94BC-4B9A-A665-8D61FEF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8EF1-7042-450F-B68F-0BBC5815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E709-B359-44F8-951D-B387B2F5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738-AB2D-4156-ABE6-F4167FAD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293E-EDE7-4DE6-BABD-8A22528E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4546-27C2-48DC-AE26-0F67F213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AA02-C273-469A-9A5B-9B21D184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C229-24B9-46D8-966F-CC6E2855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6BD9A-1D79-44EA-AB21-B3CC7F1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EB5D-4A2F-42B0-B090-9E459C6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E172-84D6-4085-8742-31C9A774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41389-CB90-4076-931A-14FFC6A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B432-37F5-4B0E-B191-77F57F8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EA4D9-D451-4AF8-AC21-BCEC0F9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C79-BE47-44BC-A391-ED13C63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8CDE-B4C3-421C-8C30-E1A5FF7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3382-0D4D-496F-87F1-E28A7F3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9EC4-F91B-4190-838D-AFF52F9B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70FA-776A-4907-809B-CEF8CBB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E6D52-33D8-4F31-BDCE-82B38E4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839E-AB62-46A8-91B3-EF688952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93FF-1ECE-4231-B4EC-37C2283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11B3-971B-4E8F-9827-705B6F6E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506C-BF63-45B8-8C0E-E95FB00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940C-64AD-455F-B6B0-4BA0C6C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319-6B11-409A-958E-E585E57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EBD07-C4D1-4441-998F-EE9E52F0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6517-1259-40BD-A414-5612801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E8FB-4006-464F-B033-A197230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694A9-8AD6-42B4-B9C3-B8FE177D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6C08-AFD8-4734-B7B9-FF6CA5A4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B5C-E12D-48FD-BA1C-D98C7B1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moonlight master 2.png"/>
          <p:cNvPicPr/>
          <p:nvPr/>
        </p:nvPicPr>
        <p:blipFill>
          <a:blip r:embed="rId3"/>
          <a:srcRect l="2391" t="1098" r="1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723F-3A71-40C2-BFE4-0B20F0117FD0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Moonlight title.png"/>
          <p:cNvPicPr/>
          <p:nvPr/>
        </p:nvPicPr>
        <p:blipFill>
          <a:blip r:embed="rId3"/>
          <a:srcRect l="6767" t="0" r="4152" b="41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54336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240" y="6511680"/>
            <a:ext cx="10666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3F4A-5D4E-48D1-8CDE-47183EAEA29C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moonlight section.png"/>
          <p:cNvPicPr/>
          <p:nvPr/>
        </p:nvPicPr>
        <p:blipFill>
          <a:blip r:embed="rId3"/>
          <a:srcRect l="6390" t="0" r="4960" b="27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290-E9D1-4464-A9D8-FABFAD6E64A4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890-C2BD-41E0-98D4-C8D4337795B7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3518-6293-4116-927E-9C2E0BD07A7A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43D-9D2A-4ACD-B5B5-5BC024807CDC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CE58-76DE-4BE2-9D0E-93CF86117F71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56664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295" name="Content Placeholder 2" descr=""/>
          <p:cNvPicPr/>
          <p:nvPr/>
        </p:nvPicPr>
        <p:blipFill>
          <a:blip r:embed="rId2"/>
          <a:stretch/>
        </p:blipFill>
        <p:spPr>
          <a:xfrm>
            <a:off x="603360" y="1798560"/>
            <a:ext cx="3084480" cy="3870360"/>
          </a:xfrm>
          <a:prstGeom prst="rect">
            <a:avLst/>
          </a:prstGeom>
          <a:ln w="0">
            <a:noFill/>
          </a:ln>
        </p:spPr>
      </p:pic>
      <p:pic>
        <p:nvPicPr>
          <p:cNvPr id="296" name="Content Placeholder 3" descr=""/>
          <p:cNvPicPr/>
          <p:nvPr/>
        </p:nvPicPr>
        <p:blipFill>
          <a:blip r:embed="rId3"/>
          <a:stretch/>
        </p:blipFill>
        <p:spPr>
          <a:xfrm>
            <a:off x="5022720" y="1968480"/>
            <a:ext cx="29876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3:27:25Z</dcterms:created>
  <dc:creator>Doug Shook</dc:creator>
  <dc:description/>
  <dc:language>en-US</dc:language>
  <cp:lastModifiedBy>Doug Shook</cp:lastModifiedBy>
  <dcterms:modified xsi:type="dcterms:W3CDTF">2008-03-26T23:28:50Z</dcterms:modified>
  <cp:revision>1</cp:revision>
  <dc:subject/>
  <dc:title>Quiz:  Friday March 28, 2008</dc:title>
</cp:coreProperties>
</file>